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DCF39-7F3E-47D8-A582-B10DBE9A0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BA1A2-3D0D-4E7C-B6E7-1FA62B2ED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503D3-A123-4BF6-B67E-1A6E68C1C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1F2B3-14E3-4EB0-9C0C-C6D005AA0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EC05E15-3B95-43CF-BBFA-A8BA9EE2B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4F0E42-0172-4BE1-A17C-C5EF031B1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4B7EB0-B153-4161-AB55-E2957A227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4D1139-1783-43F4-AB50-097514AC6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5155D30-1D44-4F1E-9BAA-A2961119B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2662DA1-3B8F-42B6-8263-14E951614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AFB358-FEB0-4833-9A14-CC36FB840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84F9F-A973-495D-A853-7528304C7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8EC030-D0C0-4222-88EA-70D967909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63861E-C747-487E-A57E-A6F68FC19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A21892-12BC-4FFE-80B7-683D0A2E0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B39FABA-DB25-4584-9514-B5B4B7272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093513B-1D40-4B0E-9602-C3639B8364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BB469-5CE7-4D7D-B3D4-D19D0F881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D6740-BF48-4089-95FB-7525AE5EA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A96AA-92AA-49D0-8ED5-3DDC8C0E6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B212F-7BF6-4C69-935C-EAC45E2C0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5B0F9-2B9F-41E9-87B6-2DE6C22B4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113A4-C3E8-4E7A-9BE1-DCA9AD9D4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C7BF0-44F6-4637-B7B2-FB9CCABBA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9AE6-50DC-4E60-A253-4906160750D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CA80-064E-429C-89BC-D008E22C300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197000"/>
            <a:ext cx="8229600" cy="23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1" lang="en-US" sz="8000" spc="-1" strike="noStrike">
                <a:solidFill>
                  <a:srgbClr val="fff6e3"/>
                </a:solidFill>
                <a:latin typeface="Comic Sans MS"/>
              </a:rPr>
              <a:t>LA LAGUNA DE CALDERON</a:t>
            </a:r>
            <a:endParaRPr b="0" lang="en-US" sz="8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04280"/>
            <a:ext cx="8229600" cy="107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Comic Sans MS"/>
              </a:rPr>
              <a:t>SU SITUACIÓN</a:t>
            </a:r>
            <a:endParaRPr b="0" lang="en-US" sz="4400" spc="-1" strike="noStrike">
              <a:solidFill>
                <a:srgbClr val="e3e3ff"/>
              </a:solidFill>
              <a:latin typeface="Arial"/>
            </a:endParaRPr>
          </a:p>
        </p:txBody>
      </p:sp>
      <p:sp>
        <p:nvSpPr>
          <p:cNvPr id="12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35880" indent="-335880">
              <a:lnSpc>
                <a:spcPct val="80000"/>
              </a:lnSpc>
              <a:spcBef>
                <a:spcPts val="45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Comic Sans MS"/>
              </a:rPr>
              <a:t>Situadas en el término municipal de </a:t>
            </a:r>
            <a:r>
              <a:rPr b="1" lang="en-US" sz="1800" spc="-1" strike="noStrike">
                <a:solidFill>
                  <a:srgbClr val="00cc00"/>
                </a:solidFill>
                <a:latin typeface="Comic Sans MS"/>
              </a:rPr>
              <a:t>Osuna y pertenecientes a la Reserva Natural Complejo Endorreico de Lantejuela</a:t>
            </a:r>
            <a:r>
              <a:rPr b="0" lang="en-US" sz="1800" spc="-1" strike="noStrike">
                <a:solidFill>
                  <a:srgbClr val="00cc00"/>
                </a:solidFill>
                <a:latin typeface="Comic Sans MS"/>
              </a:rPr>
              <a:t>, estas lagunas de escasa profundidad dependen fundamentalmente de los aportes directos de las precipitaciones. A comienzos de noviembre, cuando las lluvias comienzan a ser significativas y la reserva de agua del suelo deja de ser deficitaria, las lagunas comienzan a acumular agua, permaneciendo inundadas en condiciones naturales hasta finales de junio.</a:t>
            </a:r>
            <a:endParaRPr b="0" lang="en-US" sz="1800" spc="-1" strike="noStrike">
              <a:solidFill>
                <a:srgbClr val="ffffff"/>
              </a:solidFill>
              <a:latin typeface="Arial"/>
            </a:endParaRPr>
          </a:p>
          <a:p>
            <a:pPr marL="335880" indent="-335880">
              <a:lnSpc>
                <a:spcPct val="80000"/>
              </a:lnSpc>
              <a:spcBef>
                <a:spcPts val="45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Comic Sans MS"/>
              </a:rPr>
              <a:t> </a:t>
            </a:r>
            <a:endParaRPr b="0" lang="en-US" sz="1800" spc="-1" strike="noStrike">
              <a:solidFill>
                <a:srgbClr val="ffffff"/>
              </a:solidFill>
              <a:latin typeface="Arial"/>
            </a:endParaRPr>
          </a:p>
        </p:txBody>
      </p:sp>
      <p:pic>
        <p:nvPicPr>
          <p:cNvPr id="124" name="" descr=""/>
          <p:cNvPicPr/>
          <p:nvPr/>
        </p:nvPicPr>
        <p:blipFill>
          <a:blip r:embed="rId1"/>
          <a:stretch/>
        </p:blipFill>
        <p:spPr>
          <a:xfrm>
            <a:off x="5219640" y="1916280"/>
            <a:ext cx="3313080" cy="367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Comic Sans MS"/>
              </a:rPr>
              <a:t>EL PRINCIPAL APORTE DE AGUA</a:t>
            </a:r>
            <a:endParaRPr b="0" lang="en-US" sz="3600" spc="-1" strike="noStrike">
              <a:solidFill>
                <a:srgbClr val="e3e3ff"/>
              </a:solidFill>
              <a:latin typeface="Arial"/>
            </a:endParaRPr>
          </a:p>
        </p:txBody>
      </p:sp>
      <p:sp>
        <p:nvSpPr>
          <p:cNvPr id="126"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76"/>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00"/>
                </a:solidFill>
                <a:latin typeface="Comic Sans MS"/>
              </a:rPr>
              <a:t>El principal aporte de agua a la laguna de Calderón Grande era el arroyo Salado, el cual se encuentra actualmente canalizado y flanqueado por muros de tierra que impiden que se desborde e inunde los terrenos aledaños. Éste es el principal motivo por el cual la laguna de Calderón Grande se encuentra actualmente seca, lo que también motiva que el proyecto para su restauración pase por permitir que el agua que circula por el canal se desborde a ambos lados del mismo. </a:t>
            </a:r>
            <a:endParaRPr b="0" lang="en-US" sz="1900" spc="-1" strike="noStrike">
              <a:solidFill>
                <a:srgbClr val="ffffff"/>
              </a:solidFill>
              <a:latin typeface="Arial"/>
            </a:endParaRPr>
          </a:p>
        </p:txBody>
      </p:sp>
      <p:pic>
        <p:nvPicPr>
          <p:cNvPr id="127" name="" descr=""/>
          <p:cNvPicPr/>
          <p:nvPr/>
        </p:nvPicPr>
        <p:blipFill>
          <a:blip r:embed="rId1"/>
          <a:stretch/>
        </p:blipFill>
        <p:spPr>
          <a:xfrm>
            <a:off x="684360" y="1700280"/>
            <a:ext cx="3316320" cy="2171520"/>
          </a:xfrm>
          <a:prstGeom prst="rect">
            <a:avLst/>
          </a:prstGeom>
          <a:ln w="0">
            <a:noFill/>
          </a:ln>
        </p:spPr>
      </p:pic>
      <p:pic>
        <p:nvPicPr>
          <p:cNvPr id="128" name="" descr=""/>
          <p:cNvPicPr/>
          <p:nvPr/>
        </p:nvPicPr>
        <p:blipFill>
          <a:blip r:embed="rId2"/>
          <a:stretch/>
        </p:blipFill>
        <p:spPr>
          <a:xfrm>
            <a:off x="684360" y="4005360"/>
            <a:ext cx="3311280" cy="19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Comic Sans MS"/>
              </a:rPr>
              <a:t>LOS FLAMENCOS DE LA LAGUNA</a:t>
            </a:r>
            <a:endParaRPr b="0" lang="en-US" sz="3600" spc="-1" strike="noStrike">
              <a:solidFill>
                <a:srgbClr val="e3e3ff"/>
              </a:solidFill>
              <a:latin typeface="Arial"/>
            </a:endParaRPr>
          </a:p>
        </p:txBody>
      </p:sp>
      <p:sp>
        <p:nvSpPr>
          <p:cNvPr id="130" name="PlaceHolder 2"/>
          <p:cNvSpPr>
            <a:spLocks noGrp="1"/>
          </p:cNvSpPr>
          <p:nvPr>
            <p:ph/>
          </p:nvPr>
        </p:nvSpPr>
        <p:spPr>
          <a:xfrm>
            <a:off x="457200" y="1628640"/>
            <a:ext cx="8229600" cy="214344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lnSpc>
                <a:spcPct val="90000"/>
              </a:lnSpc>
              <a:spcBef>
                <a:spcPts val="476"/>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00"/>
                </a:solidFill>
                <a:latin typeface="Arial"/>
              </a:rPr>
              <a:t>Los flamencos viven en lagunas, o lagos, donde existe abundante lodo y agua. Los flamencos utilizan una gran variedad de hábitats: pantanos de manglares, marismas, e islas de arena en la zona de la marea. La profundidad del agua es de importancia especial, no solo para alimentarse sino para anidar.  </a:t>
            </a:r>
            <a:endParaRPr b="0" lang="en-US" sz="1900" spc="-1" strike="noStrike">
              <a:solidFill>
                <a:srgbClr val="ffffff"/>
              </a:solidFill>
              <a:latin typeface="Arial"/>
            </a:endParaRPr>
          </a:p>
        </p:txBody>
      </p:sp>
      <p:pic>
        <p:nvPicPr>
          <p:cNvPr id="131" name="" descr=""/>
          <p:cNvPicPr/>
          <p:nvPr/>
        </p:nvPicPr>
        <p:blipFill>
          <a:blip r:embed="rId1"/>
          <a:stretch/>
        </p:blipFill>
        <p:spPr>
          <a:xfrm>
            <a:off x="611280" y="3924360"/>
            <a:ext cx="8064360" cy="217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9T15:53:10Z</dcterms:created>
  <dc:creator>Lorena</dc:creator>
  <dc:description/>
  <dc:language>en-US</dc:language>
  <cp:lastModifiedBy>Lorena</cp:lastModifiedBy>
  <dcterms:modified xsi:type="dcterms:W3CDTF">2011-11-09T16:25:51Z</dcterms:modified>
  <cp:revision>2</cp:revision>
  <dc:subject/>
  <dc:title> LA LAGUNA DE CALDERON</dc:title>
</cp:coreProperties>
</file>